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D6D-9255-4C2A-8E3C-AD3F0DE7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AA2-1F06-445E-8605-9D5D0E5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C9A-8602-44EE-A429-73890B93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175-E0C0-4518-B80F-4905379C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58D9-679A-4A14-98A1-F57129C9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47B6-BA5F-4EB4-9B60-0E9D382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86C0-7D15-43B9-BF86-3BDFA2E7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CB87-03FE-478B-843B-59EE135A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B206-E339-4257-80F1-471A9A20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7462-4BF7-4ACD-BEAE-78F55746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B3AA-ABF7-4241-9587-2C34D54C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BA0-396F-4B4E-95B6-5F3745DE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8E7D-FE7E-4747-9653-7CED27F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CE1A-28EF-4338-9B8D-B20B0075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23FC-906E-4B8E-97E6-BAB53BBC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1A5-B642-464D-B67E-4BCCFF68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264B-7F41-4ABD-A7AC-CD5B96A0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B4B-C31D-478E-80F4-D336B10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219-3E23-4756-ABAC-5BD52DF5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905-3569-4A2C-BADF-A6BE379E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286-1095-4643-BC47-01788D53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BB3-D28E-41F3-B8C2-DA409DA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626-9491-4710-A39F-7B040FDD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15D-435B-4037-8117-140A742B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fdf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7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6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6f6f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3B6E-CE5A-4614-80FE-372E1D9F1E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4b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fdf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7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6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6f6f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9F2-1786-41B4-8918-CB81741CC9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bcc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rm-up:  MSA Review Day 10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3960" y="3429000"/>
            <a:ext cx="7810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a triangle with a 3cm base, a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gle, and a 4 cm h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53080" y="505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4191120"/>
            <a:ext cx="3048120" cy="167616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3809880"/>
            <a:ext cx="380880" cy="7621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ythagorean Theor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pplies to right tri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e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sides of the triang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Hypoten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onges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Theorem is the relationship between the legs of a right triangle, and the hypotenu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3886200"/>
            <a:ext cx="2819520" cy="205740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00400" y="4267080"/>
            <a:ext cx="4038120" cy="2120760"/>
            <a:chOff x="3200400" y="4267080"/>
            <a:chExt cx="4038120" cy="2120760"/>
          </a:xfrm>
        </p:grpSpPr>
        <p:sp>
          <p:nvSpPr>
            <p:cNvPr id="220" name=""/>
            <p:cNvSpPr/>
            <p:nvPr/>
          </p:nvSpPr>
          <p:spPr>
            <a:xfrm>
              <a:off x="3200400" y="4571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560" y="5867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4267080"/>
              <a:ext cx="205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hypotenu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formula (theorem) you can use to find the length of a hypotenuse when you know the length of the leg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30492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ing a missing s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the numbers into the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equation for the missing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 a = 21m, b = 28m, c =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38080" y="3352680"/>
            <a:ext cx="2667240" cy="2532600"/>
            <a:chOff x="838080" y="3352680"/>
            <a:chExt cx="2667240" cy="2532600"/>
          </a:xfrm>
        </p:grpSpPr>
        <p:sp>
          <p:nvSpPr>
            <p:cNvPr id="228" name=""/>
            <p:cNvSpPr/>
            <p:nvPr/>
          </p:nvSpPr>
          <p:spPr>
            <a:xfrm>
              <a:off x="1523880" y="3352680"/>
              <a:ext cx="1828800" cy="2057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426708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15 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8280" y="403848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25 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9680" y="54864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issing side.  Show all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___, b = 9 m, c = 19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80880" y="2286000"/>
            <a:ext cx="3429000" cy="2440800"/>
            <a:chOff x="380880" y="2286000"/>
            <a:chExt cx="3429000" cy="2440800"/>
          </a:xfrm>
        </p:grpSpPr>
        <p:sp>
          <p:nvSpPr>
            <p:cNvPr id="235" name=""/>
            <p:cNvSpPr/>
            <p:nvPr/>
          </p:nvSpPr>
          <p:spPr>
            <a:xfrm>
              <a:off x="914040" y="2286000"/>
              <a:ext cx="2895840" cy="1828440"/>
            </a:xfrm>
            <a:prstGeom prst="rtTriangl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1080" y="25905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1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04760" y="4267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14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880" y="30477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ng a Right Triang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the values into the theorem and see if it makes a true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 12 km, 16 km, 2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 7 cm, 8cm, 1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is a right triangle?  Show wor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059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, 25 m, 34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in, 21 in, 60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:  Finding the hypoten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00:11Z</dcterms:created>
  <dc:creator>ccps</dc:creator>
  <dc:description/>
  <dc:language>en-US</dc:language>
  <cp:lastModifiedBy>Brian McGrath</cp:lastModifiedBy>
  <dcterms:modified xsi:type="dcterms:W3CDTF">2011-02-25T01:23:05Z</dcterms:modified>
  <cp:revision>10</cp:revision>
  <dc:subject/>
  <dc:title>Obj 9.3:  To use the Pythagorean Theorem to solve right triangles.</dc:title>
</cp:coreProperties>
</file>